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6C05-1A6C-460D-95D7-88542871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A2E-4EC6-4C7B-ADEF-7983888D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785-58C0-453C-A055-3405C252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2D1-4FBF-4555-8098-A97F4727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65EC-73DF-43F0-9209-0EEF6CC3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833D-5045-45A4-B456-2A672408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385C-21B8-4C88-A090-5217AE9E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5B57-C2D1-47A9-8F41-B65F3369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F491-2E0C-4511-B135-471E53DC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4045-238A-4C84-AB1F-11E03F81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EED4-6034-4D31-97D6-6E6D79AE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81B-C243-4BD7-8CD4-39A512F9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3B94-1E52-4A9B-86B7-0375029B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919C-246C-4C94-B1DC-77BD0670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F731-9F56-4FB7-A423-E6D4D1ED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5FB7-B7E7-49C5-918A-1D6ECBA0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9315-0099-4CDC-8B0A-D2336C33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FFA-1FE7-4938-82A6-667820B2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7D7-D1E3-4D9F-A549-16D44CB1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131-0C28-4E36-9AD7-A1C2FCAB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E52-67CE-45DC-8B7B-DD00939A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B19-E275-4D40-96BF-62ECDC4D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977-ECBE-418A-B85F-B83FE4CA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A29-BD43-46D1-8EDC-7E1395DC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8A95-F1BB-4530-809C-B482641427B3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7F5D-B3F0-48E0-A014-CFF06F53ED0C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1"/>
          <a:srcRect l="5741" t="12734" r="6975" b="18005"/>
          <a:stretch/>
        </p:blipFill>
        <p:spPr>
          <a:xfrm>
            <a:off x="1763640" y="2066760"/>
            <a:ext cx="7164360" cy="4557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SWScan00286"/>
          <p:cNvPicPr/>
          <p:nvPr/>
        </p:nvPicPr>
        <p:blipFill>
          <a:blip r:embed="rId2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84" name="WordArt 8" descr=""/>
          <p:cNvPicPr/>
          <p:nvPr/>
        </p:nvPicPr>
        <p:blipFill>
          <a:blip r:embed="rId3"/>
          <a:stretch/>
        </p:blipFill>
        <p:spPr>
          <a:xfrm>
            <a:off x="1689120" y="109440"/>
            <a:ext cx="7242120" cy="163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Пользователь\Desktop\1v5_enlgw.jpg"/>
          <p:cNvPicPr/>
          <p:nvPr/>
        </p:nvPicPr>
        <p:blipFill>
          <a:blip r:embed="rId4"/>
          <a:stretch/>
        </p:blipFill>
        <p:spPr>
          <a:xfrm>
            <a:off x="108000" y="92160"/>
            <a:ext cx="1295280" cy="1725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763640" y="1176840"/>
            <a:ext cx="70563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1. Поэт Г.Р. Державин и композитор О.А. Козловский были авторами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гимна - марша «гром победы, раздавайся»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«Преображенского марша»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русского духовного гимна «Коль славен наш Господь в Сионе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2. Инициатором создания собственного национального гимна российской империи был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Николай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Александр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3. Национальный гимн России «Боже, царя храни!» был создан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В.А. Жуковским и А.Ф. Львовым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М.М. Харасковым и Д.С. Бортнянским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К.Д. Бальмонтом и А.Т. Гречаниновы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4. Назовите государственный гимн Советской России в 1918 –1943 гг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«Марсельеза»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«Гимн партии большевиков»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«Интернационал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5. Автором слов современного государственного гимна России является поэт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А. Вознесенский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С. Михалков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В. Лебедев- Кумач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6. Современный государственный гимн России утвержден на музыку композитора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А. Александрова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М. Глинки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А. Пахмутово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WordArt 8" descr=""/>
          <p:cNvPicPr/>
          <p:nvPr/>
        </p:nvPicPr>
        <p:blipFill>
          <a:blip r:embed="rId1"/>
          <a:stretch/>
        </p:blipFill>
        <p:spPr>
          <a:xfrm>
            <a:off x="5492880" y="171360"/>
            <a:ext cx="3438360" cy="919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SWScan00286"/>
          <p:cNvPicPr/>
          <p:nvPr/>
        </p:nvPicPr>
        <p:blipFill>
          <a:blip r:embed="rId2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SWScan00286"/>
          <p:cNvPicPr/>
          <p:nvPr/>
        </p:nvPicPr>
        <p:blipFill>
          <a:blip r:embed="rId1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grpSp>
        <p:nvGrpSpPr>
          <p:cNvPr id="90" name="Group 978"/>
          <p:cNvGrpSpPr/>
          <p:nvPr/>
        </p:nvGrpSpPr>
        <p:grpSpPr>
          <a:xfrm>
            <a:off x="603000" y="2329200"/>
            <a:ext cx="3042360" cy="2961720"/>
            <a:chOff x="603000" y="2329200"/>
            <a:chExt cx="3042360" cy="2961720"/>
          </a:xfrm>
        </p:grpSpPr>
        <p:pic>
          <p:nvPicPr>
            <p:cNvPr id="91" name="Picture 974" descr=""/>
            <p:cNvPicPr/>
            <p:nvPr/>
          </p:nvPicPr>
          <p:blipFill>
            <a:blip r:embed="rId2"/>
            <a:srcRect l="9547" t="18368" r="61545" b="47266"/>
            <a:stretch/>
          </p:blipFill>
          <p:spPr>
            <a:xfrm rot="1902600">
              <a:off x="971640" y="2781360"/>
              <a:ext cx="23050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973"/>
            <p:cNvSpPr/>
            <p:nvPr/>
          </p:nvSpPr>
          <p:spPr>
            <a:xfrm>
              <a:off x="2340000" y="393372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3" name=""/>
          <p:cNvGraphicFramePr/>
          <p:nvPr/>
        </p:nvGraphicFramePr>
        <p:xfrm>
          <a:off x="3851280" y="3500280"/>
          <a:ext cx="5148360" cy="3200400"/>
        </p:xfrm>
        <a:graphic>
          <a:graphicData uri="http://schemas.openxmlformats.org/drawingml/2006/table">
            <a:tbl>
              <a:tblPr/>
              <a:tblGrid>
                <a:gridCol w="270000"/>
                <a:gridCol w="271440"/>
                <a:gridCol w="269640"/>
                <a:gridCol w="271440"/>
                <a:gridCol w="270000"/>
                <a:gridCol w="270000"/>
                <a:gridCol w="271440"/>
                <a:gridCol w="269640"/>
                <a:gridCol w="271800"/>
                <a:gridCol w="269640"/>
                <a:gridCol w="271440"/>
                <a:gridCol w="271440"/>
                <a:gridCol w="268560"/>
                <a:gridCol w="271440"/>
                <a:gridCol w="274320"/>
                <a:gridCol w="270000"/>
                <a:gridCol w="271440"/>
                <a:gridCol w="271440"/>
                <a:gridCol w="2732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965"/>
          <p:cNvSpPr/>
          <p:nvPr/>
        </p:nvSpPr>
        <p:spPr>
          <a:xfrm>
            <a:off x="3959280" y="764640"/>
            <a:ext cx="5184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По горизонтали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Название марша первого петровского полк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Название музыкального произведения, которое звучало на официальных государственных мероприятиях Временного правительства в 1917 год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Автор музыки"Патриотической песни"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Русский поэт, автор первого российского неофициального гимна-марш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Русский поэт, автор слов гимна "Боже, царя храни!"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По вертикали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Композитор, автор музыки государственного гимна современной Росси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Партийный гимн российской социал-демократии, ставший впоследствии государственным гимном Советского Союза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977"/>
          <p:cNvGrpSpPr/>
          <p:nvPr/>
        </p:nvGrpSpPr>
        <p:grpSpPr>
          <a:xfrm>
            <a:off x="1403280" y="4508640"/>
            <a:ext cx="1673280" cy="2173320"/>
            <a:chOff x="1403280" y="4508640"/>
            <a:chExt cx="1673280" cy="2173320"/>
          </a:xfrm>
        </p:grpSpPr>
        <p:pic>
          <p:nvPicPr>
            <p:cNvPr id="96" name="Picture 967" descr="глинка"/>
            <p:cNvPicPr/>
            <p:nvPr/>
          </p:nvPicPr>
          <p:blipFill>
            <a:blip r:embed="rId3"/>
            <a:stretch/>
          </p:blipFill>
          <p:spPr>
            <a:xfrm>
              <a:off x="1403280" y="4508640"/>
              <a:ext cx="167328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AutoShape 970"/>
            <p:cNvSpPr/>
            <p:nvPr/>
          </p:nvSpPr>
          <p:spPr>
            <a:xfrm>
              <a:off x="1476360" y="6237360"/>
              <a:ext cx="431640" cy="360360"/>
            </a:xfrm>
            <a:prstGeom prst="rightArrow">
              <a:avLst>
                <a:gd name="adj1" fmla="val 50000"/>
                <a:gd name="adj2" fmla="val 2994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976"/>
          <p:cNvGrpSpPr/>
          <p:nvPr/>
        </p:nvGrpSpPr>
        <p:grpSpPr>
          <a:xfrm>
            <a:off x="2771640" y="2637000"/>
            <a:ext cx="1231920" cy="2109600"/>
            <a:chOff x="2771640" y="2637000"/>
            <a:chExt cx="1231920" cy="2109600"/>
          </a:xfrm>
        </p:grpSpPr>
        <p:pic>
          <p:nvPicPr>
            <p:cNvPr id="99" name="Picture 968" descr="державин"/>
            <p:cNvPicPr/>
            <p:nvPr/>
          </p:nvPicPr>
          <p:blipFill>
            <a:blip r:embed="rId4"/>
            <a:stretch/>
          </p:blipFill>
          <p:spPr>
            <a:xfrm>
              <a:off x="2771640" y="2637000"/>
              <a:ext cx="123192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971"/>
            <p:cNvSpPr/>
            <p:nvPr/>
          </p:nvSpPr>
          <p:spPr>
            <a:xfrm>
              <a:off x="2843280" y="4292640"/>
              <a:ext cx="503280" cy="358560"/>
            </a:xfrm>
            <a:prstGeom prst="rightArrow">
              <a:avLst>
                <a:gd name="adj1" fmla="val 50000"/>
                <a:gd name="adj2" fmla="val 3509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975"/>
          <p:cNvGrpSpPr/>
          <p:nvPr/>
        </p:nvGrpSpPr>
        <p:grpSpPr>
          <a:xfrm>
            <a:off x="826920" y="907920"/>
            <a:ext cx="1944720" cy="2016360"/>
            <a:chOff x="826920" y="907920"/>
            <a:chExt cx="1944720" cy="2016360"/>
          </a:xfrm>
        </p:grpSpPr>
        <p:pic>
          <p:nvPicPr>
            <p:cNvPr id="102" name="Picture 966" descr=""/>
            <p:cNvPicPr/>
            <p:nvPr/>
          </p:nvPicPr>
          <p:blipFill>
            <a:blip r:embed="rId5"/>
            <a:stretch/>
          </p:blipFill>
          <p:spPr>
            <a:xfrm>
              <a:off x="826920" y="907920"/>
              <a:ext cx="194472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972"/>
            <p:cNvSpPr/>
            <p:nvPr/>
          </p:nvSpPr>
          <p:spPr>
            <a:xfrm>
              <a:off x="971280" y="242100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WordArt 8" descr=""/>
          <p:cNvPicPr/>
          <p:nvPr/>
        </p:nvPicPr>
        <p:blipFill>
          <a:blip r:embed="rId6"/>
          <a:stretch/>
        </p:blipFill>
        <p:spPr>
          <a:xfrm>
            <a:off x="5492880" y="171360"/>
            <a:ext cx="3511440" cy="633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692360" y="1394640"/>
            <a:ext cx="71276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. С какого музыкального произведения начинается история отечественной музыкальной символик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. Когда в России появился гимн-марш "Гром победы, раздавайся"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. Кто был автором слов и музыки гимна-марша "Гром победы, раздавайся"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. Как назывался национальный духовный гимн дореволюционной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5. Назовите композитора и поэта, создавших национальный духовный гимн дореволюционной Росси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6. Какое музыкальное произведение являлось официальным гимном России во время правления Александра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7. Кто был инициатором создания собственного национального гимна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8. Назовите композитора и поэта, создавших первый национальный гимн России-"Боже, царя храни!"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9. Какое музыкальное произведение являлось временным государственным гимном России в период после Февральской революции и до октября 1917 год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0. Какая страна является родиной "Марсельезы"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1. Кто был автором слов и музыки международного пролетарского гимн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2. Как назывался первый государственный гимн Российской Советской республик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3. Кто был автором музыкальной основы государственного гимна России 1 1993-2000 год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4. Кто является автором музыки современного государственного гимна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WordArt 8" descr=""/>
          <p:cNvPicPr/>
          <p:nvPr/>
        </p:nvPicPr>
        <p:blipFill>
          <a:blip r:embed="rId1"/>
          <a:stretch/>
        </p:blipFill>
        <p:spPr>
          <a:xfrm>
            <a:off x="4267080" y="182520"/>
            <a:ext cx="4737240" cy="112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WScan00286"/>
          <p:cNvPicPr/>
          <p:nvPr/>
        </p:nvPicPr>
        <p:blipFill>
          <a:blip r:embed="rId2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SWScan00286"/>
          <p:cNvPicPr/>
          <p:nvPr/>
        </p:nvPicPr>
        <p:blipFill>
          <a:blip r:embed="rId1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graphicFrame>
        <p:nvGraphicFramePr>
          <p:cNvPr id="109" name=""/>
          <p:cNvGraphicFramePr/>
          <p:nvPr/>
        </p:nvGraphicFramePr>
        <p:xfrm>
          <a:off x="1619280" y="1052640"/>
          <a:ext cx="7273800" cy="5568840"/>
        </p:xfrm>
        <a:graphic>
          <a:graphicData uri="http://schemas.openxmlformats.org/drawingml/2006/table">
            <a:tbl>
              <a:tblPr/>
              <a:tblGrid>
                <a:gridCol w="1933560"/>
                <a:gridCol w="1884240"/>
                <a:gridCol w="1835280"/>
                <a:gridCol w="162072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Утвержден новый Государственный гимн ССС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Утвержден Государственный гимн Росси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Утверждён Государственный гимн Российской империи «Боже, царя храни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Законодательно приняты государственные символы России- герб, гимн, фла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оздание гимна -марша «Гром победы, раздавайся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Упразднение старых и утверждение новых государственных символов Росс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оявление первого национального гимна России на слова В.А. Жуковского и мелодию английского гимн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146"/>
          <p:cNvSpPr/>
          <p:nvPr/>
        </p:nvSpPr>
        <p:spPr>
          <a:xfrm>
            <a:off x="3492360" y="2288520"/>
            <a:ext cx="1943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mic Sans MS"/>
              </a:rPr>
              <a:t>Восстановите даты и события,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mic Sans MS"/>
              </a:rPr>
              <a:t>связанные с историей становле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omic Sans MS"/>
              </a:rPr>
              <a:t>и развитием государственных гимнов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mic Sans MS"/>
              </a:rPr>
              <a:t>нашей стран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WordArt 8"/>
          <p:cNvSpPr txBox="1"/>
          <p:nvPr/>
        </p:nvSpPr>
        <p:spPr>
          <a:xfrm>
            <a:off x="5580000" y="333360"/>
            <a:ext cx="302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йндат</a:t>
            </a:r>
            <a:endParaRPr b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835280" y="1413000"/>
            <a:ext cx="5761080" cy="36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горизонтал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Преображенски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«Марсельеза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Глин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Держав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Жуковски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 вертикал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Александро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Интернациона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WordArt 8" descr=""/>
          <p:cNvPicPr/>
          <p:nvPr/>
        </p:nvPicPr>
        <p:blipFill>
          <a:blip r:embed="rId1"/>
          <a:stretch/>
        </p:blipFill>
        <p:spPr>
          <a:xfrm>
            <a:off x="5492880" y="171360"/>
            <a:ext cx="3511440" cy="633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SWScan00286"/>
          <p:cNvPicPr/>
          <p:nvPr/>
        </p:nvPicPr>
        <p:blipFill>
          <a:blip r:embed="rId2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18920" y="1773360"/>
            <a:ext cx="707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"Преображенский марш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В конц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Поэт Г.Р.Державин и композитор О.А.Козловск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"Коль славен наш Господь в Сионе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Поэт М.М.Херасков и композитор Д.С.Бортнянск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"Молитва русских" на стихи В.А.Жуковского и музыку английского гим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Николай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Поэт В.А.Жуковский и композитор А.Ф.Льв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"Марсельеза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.Фран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.Поэт Э.Потье и композитор-любитель П.Дегейт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."Интернационал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.М.И.Гли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.А.В.Алексан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WordArt 8" descr=""/>
          <p:cNvPicPr/>
          <p:nvPr/>
        </p:nvPicPr>
        <p:blipFill>
          <a:blip r:embed="rId1"/>
          <a:stretch/>
        </p:blipFill>
        <p:spPr>
          <a:xfrm>
            <a:off x="4267080" y="171360"/>
            <a:ext cx="4737240" cy="1139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SWScan00286"/>
          <p:cNvPicPr/>
          <p:nvPr/>
        </p:nvPicPr>
        <p:blipFill>
          <a:blip r:embed="rId2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SWScan00286"/>
          <p:cNvPicPr/>
          <p:nvPr/>
        </p:nvPicPr>
        <p:blipFill>
          <a:blip r:embed="rId1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graphicFrame>
        <p:nvGraphicFramePr>
          <p:cNvPr id="119" name=""/>
          <p:cNvGraphicFramePr/>
          <p:nvPr/>
        </p:nvGraphicFramePr>
        <p:xfrm>
          <a:off x="1619280" y="907920"/>
          <a:ext cx="7345440" cy="5754960"/>
        </p:xfrm>
        <a:graphic>
          <a:graphicData uri="http://schemas.openxmlformats.org/drawingml/2006/table">
            <a:tbl>
              <a:tblPr/>
              <a:tblGrid>
                <a:gridCol w="1827360"/>
                <a:gridCol w="1828800"/>
                <a:gridCol w="1757160"/>
                <a:gridCol w="19321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944- Утвержден новый Государственный гимн ССС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993 - Утвержден Государственный гимн Росси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833 - Утвержден Государственный гимн Российской империи «Боже, царя храни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000 - Законодательно приняты государственные символы России- герб, гимн, фла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91 - Создание гимна марша «Гром победы, раздавайся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918 -Упразднение старых и утверждение новых государственных символов Росс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815-Появление первого национального гимна России на слова В.А. Жуковского и мелодию английского гимн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WordArt 8"/>
          <p:cNvSpPr txBox="1"/>
          <p:nvPr/>
        </p:nvSpPr>
        <p:spPr>
          <a:xfrm>
            <a:off x="5580000" y="333360"/>
            <a:ext cx="302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йндат. Ответы</a:t>
            </a:r>
            <a:endParaRPr b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БТК</dc:creator>
  <dc:description/>
  <dc:language>en-US</dc:language>
  <cp:lastModifiedBy>Пользователь</cp:lastModifiedBy>
  <dcterms:modified xsi:type="dcterms:W3CDTF">2019-01-17T15:44:41Z</dcterms:modified>
  <cp:revision>99</cp:revision>
  <dc:subject/>
  <dc:title>Презентация PowerPoint</dc:title>
</cp:coreProperties>
</file>